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F21-4FFF-4F10-9403-685A7D12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769-048E-4F7E-B244-FAA65404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862-719A-4441-A367-77B94E24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CD4-B70A-4AA0-B796-65E69C44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F7F-AE1A-43D9-AB49-27EF94CF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6AE-A3EA-4C51-9A69-C190BF95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6C9-496D-45E4-9912-CB0ACCAB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C23-C322-4066-BF1F-A2F3A472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458-B9C8-4F46-8F8D-7D84A52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30F-F468-45CE-836E-90731504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2A7-0EB9-4B59-AEFE-FE5A5DB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F37-044C-435B-9FCA-85EB9D27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10/7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Triag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6A71-E997-4200-A562-F0AB950889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Emory Johns Creek – Triag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ge is a process, not a place.”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k White,RN Director of Emergency Room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ly triage in one large, rectangular room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ipment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and print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 and small stretch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sign machine (portable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G (portable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(baby and adult), height cha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with suppl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ge nurse is responsible for observing waiting room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riage space is not functionally designed to efficiently meet the needs of acuity adaptability, patient volume, clinician responsibility, and maintain regulatory requirement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48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454-5A69-43C0-A206-3AF6DA7D07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ge Nurse cannot see the WR from Triage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registration and Triage process are not synch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r in the Triage room is never us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second room for Triage – sometimes use the family waiting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on walls was too hig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close the blinds during 3 tria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walls as opposed to curtai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rush – use alternate triage metho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bathroom in the larger Triage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ks need to be near or in Triage are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wheelchair acces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54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sues and Observ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3A7-3873-4EC4-B6D1-F6654F2F73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iage Equip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60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327480" cy="249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21951" t="13008" r="24390" b="2441"/>
          <a:stretch/>
        </p:blipFill>
        <p:spPr>
          <a:xfrm>
            <a:off x="152280" y="3429000"/>
            <a:ext cx="225756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593040" y="274680"/>
            <a:ext cx="2495520" cy="3327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6667" t="8890" r="6667" b="0"/>
          <a:stretch/>
        </p:blipFill>
        <p:spPr>
          <a:xfrm>
            <a:off x="2209680" y="3746520"/>
            <a:ext cx="3124440" cy="2463840"/>
          </a:xfrm>
          <a:prstGeom prst="rect">
            <a:avLst/>
          </a:prstGeom>
          <a:ln w="0">
            <a:noFill/>
          </a:ln>
        </p:spPr>
      </p:pic>
      <p:sp>
        <p:nvSpPr>
          <p:cNvPr id="67" name="Content Placeholder 5"/>
          <p:cNvSpPr/>
          <p:nvPr/>
        </p:nvSpPr>
        <p:spPr>
          <a:xfrm>
            <a:off x="152280" y="1447920"/>
            <a:ext cx="4191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vital sign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E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– Adult and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rcRect l="28890" t="11850" r="33337" b="0"/>
          <a:stretch/>
        </p:blipFill>
        <p:spPr>
          <a:xfrm>
            <a:off x="4616280" y="304920"/>
            <a:ext cx="187344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EEF-AE92-4CE4-AA08-204B355CA8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ige roo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71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44B-7A58-453B-A8A2-1ED416CDC0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35:29Z</dcterms:created>
  <dc:creator>Kapil</dc:creator>
  <dc:description/>
  <dc:language>en-US</dc:language>
  <cp:lastModifiedBy>Thompson</cp:lastModifiedBy>
  <dcterms:modified xsi:type="dcterms:W3CDTF">2008-10-15T18:45:01Z</dcterms:modified>
  <cp:revision>31</cp:revision>
  <dc:subject/>
  <dc:title>Slide 1</dc:title>
</cp:coreProperties>
</file>